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97509"/>
        <c:axId val="68191779"/>
      </c:barChart>
      <c:catAx>
        <c:axId val="27097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91779"/>
        <c:crosses val="autoZero"/>
        <c:auto val="1"/>
        <c:lblAlgn val="ctr"/>
        <c:lblOffset val="100"/>
        <c:noMultiLvlLbl val="0"/>
      </c:catAx>
      <c:valAx>
        <c:axId val="68191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97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A83-DB31-40D4-A3D6-7B17B671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C50-4B58-4576-9DE6-6979AE60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ED6-553F-4BDB-80DD-CBF98CC6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04A-F39D-47D3-BC98-DAD5D9CEC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13CB-6415-4968-A02A-09C4CB02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F615-0EC4-484F-AD5F-CD6113D4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DDF-DEF0-443B-8EEE-B34262A6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9B88-E82D-47EC-9C27-468051FE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4F1A-A43D-4A8C-92AC-26E46BF4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3867-5FF3-472D-9DB8-88F9D911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C49D-B365-45A2-AA82-960FE9BF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DDAC-71DA-43D4-B243-39C74400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227A3-D70D-4F89-B281-512715987D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