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67948"/>
        <c:axId val="50842747"/>
      </c:barChart>
      <c:catAx>
        <c:axId val="50967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42747"/>
        <c:crosses val="autoZero"/>
        <c:auto val="1"/>
        <c:lblAlgn val="ctr"/>
        <c:lblOffset val="100"/>
        <c:noMultiLvlLbl val="0"/>
      </c:catAx>
      <c:valAx>
        <c:axId val="50842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67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AEA-D251-4258-8BA8-3B75C02C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3EC-9258-4E1C-A2F1-B1FF78A5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4D0-71E6-46B2-BDA8-47657280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4D3-EBA7-4BD9-9270-2B19977E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CD8-C81C-4FE7-A93E-DAF1B902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E0B-146A-4576-91C8-4C592172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218-5AAF-4D29-BC68-F4AD41CB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AC6-D9AB-4EA3-8BB6-28D10892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AFD-9CBC-4C27-91E8-85C0A21C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ED4-AA4D-4764-A4DF-CBA2FBDB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E62-964F-42CD-A323-DCD92232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074-DB88-4AA0-8C0F-B6FF2066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48A8D-3225-42F9-AFCA-1330A26C1E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